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gif" ContentType="image/gif"/>
  <Override PartName="/ppt/media/image66.jpeg" ContentType="image/jpeg"/>
  <Override PartName="/ppt/media/image57.gif" ContentType="image/gif"/>
  <Override PartName="/ppt/media/image10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4.jpeg" ContentType="image/jpeg"/>
  <Override PartName="/ppt/media/image35.gif" ContentType="image/gif"/>
  <Override PartName="/ppt/media/image43.jpeg" ContentType="image/jpeg"/>
  <Override PartName="/ppt/media/image42.gif" ContentType="image/gif"/>
  <Override PartName="/ppt/media/image38.gif" ContentType="image/gif"/>
  <Override PartName="/ppt/media/image40.gif" ContentType="image/gif"/>
  <Override PartName="/ppt/media/image31.jpeg" ContentType="image/jpeg"/>
  <Override PartName="/ppt/media/image30.jpeg" ContentType="image/jpeg"/>
  <Override PartName="/ppt/media/image58.gif" ContentType="image/gif"/>
  <Override PartName="/ppt/media/image50.png" ContentType="image/png"/>
  <Override PartName="/ppt/media/image5.jpeg" ContentType="image/jpeg"/>
  <Override PartName="/ppt/media/image19.jpeg" ContentType="image/jpeg"/>
  <Override PartName="/ppt/media/image2.gif" ContentType="image/gif"/>
  <Override PartName="/ppt/media/image36.gif" ContentType="image/gif"/>
  <Override PartName="/ppt/media/image64.jpeg" ContentType="image/jpeg"/>
  <Override PartName="/ppt/media/image21.jpeg" ContentType="image/jpeg"/>
  <Override PartName="/ppt/media/image80.jpeg" ContentType="image/jpeg"/>
  <Override PartName="/ppt/media/image22.png" ContentType="image/png"/>
  <Override PartName="/ppt/media/image27.gif" ContentType="image/gif"/>
  <Override PartName="/ppt/media/image28.jpeg" ContentType="image/jpeg"/>
  <Override PartName="/ppt/media/image51.jpeg" ContentType="image/jpeg"/>
  <Override PartName="/ppt/media/image76.jpeg" ContentType="image/jpeg"/>
  <Override PartName="/ppt/media/image49.jpeg" ContentType="image/jpeg"/>
  <Override PartName="/ppt/media/image23.gif" ContentType="image/gif"/>
  <Override PartName="/ppt/media/image26.png" ContentType="image/png"/>
  <Override PartName="/ppt/media/image60.gif" ContentType="image/gif"/>
  <Override PartName="/ppt/media/image63.png" ContentType="image/png"/>
  <Override PartName="/ppt/media/image70.jpeg" ContentType="image/jpeg"/>
  <Override PartName="/ppt/media/image65.jpeg" ContentType="image/jpeg"/>
  <Override PartName="/ppt/media/image78.wmf" ContentType="image/x-wmf"/>
  <Override PartName="/ppt/media/image73.jpeg" ContentType="image/jpeg"/>
  <Override PartName="/ppt/media/image68.jpeg" ContentType="image/jpeg"/>
  <Override PartName="/ppt/media/image71.jpeg" ContentType="image/jpeg"/>
  <Override PartName="/ppt/media/image83.gif" ContentType="image/gif"/>
  <Override PartName="/ppt/media/image67.jpeg" ContentType="image/jpeg"/>
  <Override PartName="/ppt/media/image18.jpeg" ContentType="image/jpeg"/>
  <Override PartName="/ppt/media/image59.gif" ContentType="image/gif"/>
  <Override PartName="/ppt/media/image79.jpeg" ContentType="image/jpeg"/>
  <Override PartName="/ppt/media/image62.jpeg" ContentType="image/jpeg"/>
  <Override PartName="/ppt/media/image77.jpeg" ContentType="image/jpeg"/>
  <Override PartName="/ppt/media/image61.gif" ContentType="image/gif"/>
  <Override PartName="/ppt/media/image14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9.gif" ContentType="image/gif"/>
  <Override PartName="/ppt/media/image69.jpeg" ContentType="image/jpeg"/>
  <Override PartName="/ppt/media/image15.jpeg" ContentType="image/jpeg"/>
  <Override PartName="/ppt/media/image1.jpeg" ContentType="image/jpeg"/>
  <Override PartName="/ppt/media/image81.png" ContentType="image/png"/>
  <Override PartName="/ppt/media/image4.png" ContentType="image/png"/>
  <Override PartName="/ppt/media/image34.png" ContentType="image/png"/>
  <Override PartName="/ppt/media/image74.jpeg" ContentType="image/jpeg"/>
  <Override PartName="/ppt/media/image8.png" ContentType="image/png"/>
  <Override PartName="/ppt/media/image82.gif" ContentType="image/gif"/>
  <Override PartName="/ppt/media/image41.gif" ContentType="image/gif"/>
  <Override PartName="/ppt/media/image75.jpeg" ContentType="image/jpeg"/>
  <Override PartName="/ppt/media/image3.jpeg" ContentType="image/jpeg"/>
  <Override PartName="/ppt/media/image24.gif" ContentType="image/gif"/>
  <Override PartName="/ppt/media/image32.jpeg" ContentType="image/jpeg"/>
  <Override PartName="/ppt/media/image13.jpeg" ContentType="image/jpeg"/>
  <Override PartName="/ppt/media/image12.jpeg" ContentType="image/jpeg"/>
  <Override PartName="/ppt/media/image29.jpeg" ContentType="image/jpeg"/>
  <Override PartName="/ppt/media/image7.gif" ContentType="image/gif"/>
  <Override PartName="/ppt/media/image52.jpeg" ContentType="image/jpeg"/>
  <Override PartName="/ppt/media/image37.gif" ContentType="image/gif"/>
  <Override PartName="/ppt/media/image25.jpeg" ContentType="image/jpeg"/>
  <Override PartName="/ppt/media/image72.jpeg" ContentType="image/jpeg"/>
  <Override PartName="/ppt/media/image11.gif" ContentType="image/gif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249-EE76-4059-A911-E39C3C0E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22A-3F28-4BF0-A885-0DCB2070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978-CE2E-4173-A892-5F127DF1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C2A-0F5A-4F5F-A71D-0096E3DE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EDB-A0A1-4B60-9B6A-81507B27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645-91F5-4F4F-A7FF-41D4C808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C92-BF74-4720-996C-E115BC23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E0C-BF92-4BF9-B347-ED4C70C7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82F-0BC6-404F-BC09-67C61FB0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E13-A980-4278-A2DA-C9EFDEBD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FA6-E9D3-4B2A-8456-878EF261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BCE4-6FBB-411F-89F1-47E7EB5D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053B-E823-4693-A31E-145086C6A9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0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9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" Target="slide2.xml"/><Relationship Id="rId5" Type="http://schemas.openxmlformats.org/officeDocument/2006/relationships/image" Target="../media/image9.gif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5.gif"/><Relationship Id="rId9" Type="http://schemas.openxmlformats.org/officeDocument/2006/relationships/image" Target="../media/image36.gif"/><Relationship Id="rId10" Type="http://schemas.openxmlformats.org/officeDocument/2006/relationships/image" Target="../media/image37.gif"/><Relationship Id="rId11" Type="http://schemas.openxmlformats.org/officeDocument/2006/relationships/image" Target="../media/image33.png"/><Relationship Id="rId12" Type="http://schemas.openxmlformats.org/officeDocument/2006/relationships/image" Target="../media/image38.gif"/><Relationship Id="rId13" Type="http://schemas.openxmlformats.org/officeDocument/2006/relationships/image" Target="../media/image39.gif"/><Relationship Id="rId14" Type="http://schemas.openxmlformats.org/officeDocument/2006/relationships/image" Target="../media/image40.gif"/><Relationship Id="rId15" Type="http://schemas.openxmlformats.org/officeDocument/2006/relationships/image" Target="../media/image41.gif"/><Relationship Id="rId16" Type="http://schemas.openxmlformats.org/officeDocument/2006/relationships/image" Target="../media/image42.gi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gif"/><Relationship Id="rId3" Type="http://schemas.openxmlformats.org/officeDocument/2006/relationships/hyperlink" Target="http://www.newdidai.com/ziliao/sucai/img1/34/02.gif" TargetMode="External"/><Relationship Id="rId4" Type="http://schemas.openxmlformats.org/officeDocument/2006/relationships/image" Target="../media/image57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9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58.gif"/><Relationship Id="rId7" Type="http://schemas.openxmlformats.org/officeDocument/2006/relationships/image" Target="../media/image59.gif"/><Relationship Id="rId8" Type="http://schemas.openxmlformats.org/officeDocument/2006/relationships/image" Target="../media/image60.gif"/><Relationship Id="rId9" Type="http://schemas.openxmlformats.org/officeDocument/2006/relationships/image" Target="../media/image58.gif"/><Relationship Id="rId10" Type="http://schemas.openxmlformats.org/officeDocument/2006/relationships/image" Target="../media/image61.gif"/><Relationship Id="rId1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newdidai.com/ziliao/img2009/04/16/20048221018963.gif" TargetMode="Externa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png"/><Relationship Id="rId3" Type="http://schemas.openxmlformats.org/officeDocument/2006/relationships/image" Target="../media/image81.png"/><Relationship Id="rId4" Type="http://schemas.openxmlformats.org/officeDocument/2006/relationships/image" Target="../media/image82.gif"/><Relationship Id="rId5" Type="http://schemas.openxmlformats.org/officeDocument/2006/relationships/image" Target="../media/image83.gif"/><Relationship Id="rId6" Type="http://schemas.openxmlformats.org/officeDocument/2006/relationships/hyperlink" Target="http://www.dabaoku.com/gif/023/imagepage/image24.htm" TargetMode="External"/><Relationship Id="rId7" Type="http://schemas.openxmlformats.org/officeDocument/2006/relationships/image" Target="../media/image83.gif"/><Relationship Id="rId8" Type="http://schemas.openxmlformats.org/officeDocument/2006/relationships/hyperlink" Target="http://www.dabaoku.com/gif/023/imagepage/image24.htm" TargetMode="External"/><Relationship Id="rId9" Type="http://schemas.openxmlformats.org/officeDocument/2006/relationships/image" Target="../media/image83.gif"/><Relationship Id="rId10" Type="http://schemas.openxmlformats.org/officeDocument/2006/relationships/hyperlink" Target="http://www.dabaoku.com/gif/023/imagepage/image24.htm" TargetMode="External"/><Relationship Id="rId11" Type="http://schemas.openxmlformats.org/officeDocument/2006/relationships/image" Target="../media/image83.gif"/><Relationship Id="rId12" Type="http://schemas.openxmlformats.org/officeDocument/2006/relationships/hyperlink" Target="http://www.dabaoku.com/gif/023/imagepage/image24.htm" TargetMode="External"/><Relationship Id="rId13" Type="http://schemas.openxmlformats.org/officeDocument/2006/relationships/image" Target="../media/image83.gif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4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6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92360" y="4869000"/>
            <a:ext cx="7272360" cy="129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"</a:t>
            </a: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知荣辱 学做人</a:t>
            </a: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"</a:t>
            </a: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主题班会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797040"/>
            <a:ext cx="2592360" cy="831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5400000">
            <a:off x="3499560" y="2689920"/>
            <a:ext cx="2532240" cy="819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高二</a:t>
            </a: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(10)</a:t>
            </a: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班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312 -0.757 C -0.4901 -0.75122 -0.47934 -0.74197 -0.46823 -0.73157 C -0.45365 -0.71793 -0.4368 -0.70729 -0.42066 -0.69781 C -0.41042 -0.6918 -0.40312 -0.68394 -0.39201 -0.68093 C -0.38125 -0.67145 -0.36962 -0.66336 -0.35712 -0.65966 C -0.3493 -0.65457 -0.34323 -0.64787 -0.3349 -0.64486 C -0.32014 -0.63215 -0.30851 -0.63191 -0.29062 -0.63007 C -0.27552 -0.62035 -0.26094 -0.61989 -0.24462 -0.61758 C -0.11354 -0.5281 0.04983 -0.61319 0.19688 -0.61527 C 0.20434 -0.61527 0.21719 -0.63168 0.22552 -0.63446 C 0.23681 -0.6444 0.23125 -0.64163 0.24132 -0.64486 C 0.25625 -0.65504 0.27622 -0.67376 0.29219 -0.67885 C 0.30347 -0.68879 0.29792 -0.68602 0.30799 -0.68926 C 0.31372 -0.69457 0.31701 -0.69665 0.32379 -0.69365 C 0.32656 -0.68625 0.32847 -0.67931 0.33177 -0.67238 C 0.33125 -0.65966 0.33142 -0.64694 0.33004 -0.63446 C 0.32986 -0.63122 0.32778 -0.62891 0.32708 -0.6259 C 0.32396 -0.61573 0.32118 -0.6081 0.31754 -0.59839 C 0.31493 -0.59122 0.31372 -0.58359 0.30955 -0.57735 C 0.30712 -0.57365 0.30451 -0.56972 0.30156 -0.56671 C 0.29948 -0.56463 0.29722 -0.56301 0.29531 -0.56047 C 0.28733 -0.54983 0.28142 -0.53665 0.26997 -0.53296 C 0.25434 -0.51885 0.23681 -0.51168 0.22066 -0.4992 C 0.21302 -0.49342 0.20278 -0.48324 0.19375 -0.48209 C 0.17639 -0.48001 0.15885 -0.47954 0.14115 -0.47793 C 0.13351 -0.47631 0.12535 -0.47631 0.11736 -0.47376 C 0.11563 -0.47307 0.11441 -0.47053 0.11267 -0.4696 C 0.11007 -0.46822 0.10747 -0.46798 0.10469 -0.46729 C 0.09583 -0.45966 0.08698 -0.45804 0.07778 -0.45249 C 0.06823 -0.44694 0.06007 -0.43862 0.05087 -0.43353 C 0.0467 -0.43122 0.04219 -0.43007 0.03802 -0.42729 C 0.02049 -0.4155 0.00365 -0.40232 -0.01424 -0.39122 C -0.03194 -0.38012 -0.04236 -0.37041 -0.0618 -0.36602 C -0.075 -0.357 -0.07309 -0.35746 -0.09201 -0.35538 C -0.11128 -0.3429 -0.13021 -0.32879 -0.14913 -0.31515 C -0.16024 -0.30706 -0.16996 -0.30359 -0.1809 -0.29411 C -0.18559 -0.28995 -0.19167 -0.28926 -0.1967 -0.28556 C -0.21667 -0.27053 -0.24115 -0.25758 -0.25573 -0.23284 C -0.25764 -0.22428 -0.26094 -0.21874 -0.2651 -0.21157 C -0.26979 -0.1933 -0.27882 -0.17804 -0.28733 -0.16301 C -0.28906 -0.15978 -0.29219 -0.15793 -0.29358 -0.15446 C -0.31024 -0.11885 -0.31927 -0.07492 -0.33646 -0.04047 C -0.33837 -0.03238 -0.33993 -0.0296 -0.33646 -0.0192 C -0.33576 -0.01689 -0.33333 -0.01619 -0.33177 -0.01504 C -0.32448 -0.00972 -0.31441 -0.0007 -0.30625 0.00184 C -0.21337 0.00115 -0.11996 0.00092 -0.02691 -0.00024 C -0.01632 -0.00047 -0.0059 -0.00232 0.00486 -0.00232 C 0.0066 -0.00232 -2.77778E-007 -0.00024 -2.77778E-007 -0.00024 E">
                                      <p:cBhvr>
                                        <p:cTn id="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379600" y="1125360"/>
            <a:ext cx="4568760" cy="489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75960" y="48924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以服务人民为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12000" y="62064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771640" y="1197000"/>
            <a:ext cx="374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56000" y="1154160"/>
            <a:ext cx="4321080" cy="479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4680" y="435600"/>
            <a:ext cx="911520" cy="62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以遵纪守法为荣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012000" y="6922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4360" y="981000"/>
            <a:ext cx="4341960" cy="5013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4680" y="291240"/>
            <a:ext cx="911520" cy="62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以团结互助为荣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012000" y="62064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771640" y="1197000"/>
            <a:ext cx="374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392720" cy="4824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04680" y="507240"/>
            <a:ext cx="911520" cy="62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以损人利己为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012000" y="68580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4680" y="46044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楷体_GB2312"/>
              </a:rPr>
              <a:t>以艰苦奋斗为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556000" y="1052640"/>
            <a:ext cx="432108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468360" y="6165720"/>
            <a:ext cx="476280" cy="538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516720" y="6165720"/>
            <a:ext cx="476280" cy="536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651640" y="549360"/>
            <a:ext cx="1342800" cy="431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2484360" y="1052640"/>
            <a:ext cx="4392720" cy="4968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04680" y="437400"/>
            <a:ext cx="911520" cy="62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7404"/>
                </a:solidFill>
                <a:latin typeface="Arial"/>
                <a:ea typeface="楷体_GB2312"/>
              </a:rPr>
              <a:t>以好逸恶劳为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07840" y="1245960"/>
            <a:ext cx="1003320" cy="43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分 组 汇 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文件:20048221018963.gif  &lt;br&gt;  尺寸:100 × 120  "/>
          <p:cNvPicPr/>
          <p:nvPr/>
        </p:nvPicPr>
        <p:blipFill>
          <a:blip r:embed="rId2"/>
          <a:stretch/>
        </p:blipFill>
        <p:spPr>
          <a:xfrm>
            <a:off x="611280" y="2638440"/>
            <a:ext cx="1368360" cy="1727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629080" y="2404440"/>
            <a:ext cx="38876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社会主义荣辱观继承了中华民族历久弥新的民族精神和传统美德。在悠悠的历史长河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论历经多少沧桑巨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们的民族总是坚守着一份对于真善美的崇高而纯粹的追求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当然，也会有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332000" y="2492280"/>
            <a:ext cx="4392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幼圆"/>
              </a:rPr>
              <a:t> 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幼圆"/>
              </a:rPr>
              <a:t>我是中国人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16000" y="1341360"/>
            <a:ext cx="4822920" cy="64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新魏"/>
              </a:rPr>
              <a:t>配乐朗诵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512080" y="5048280"/>
            <a:ext cx="4423320" cy="1195920"/>
            <a:chOff x="2512080" y="5048280"/>
            <a:chExt cx="4423320" cy="1195920"/>
          </a:xfrm>
        </p:grpSpPr>
        <p:sp>
          <p:nvSpPr>
            <p:cNvPr id="129" name=""/>
            <p:cNvSpPr/>
            <p:nvPr/>
          </p:nvSpPr>
          <p:spPr>
            <a:xfrm>
              <a:off x="2512080" y="5048280"/>
              <a:ext cx="4423320" cy="11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c7404"/>
                  </a:solidFill>
                  <a:latin typeface="Arial"/>
                  <a:ea typeface="楷体_GB2312"/>
                </a:rPr>
                <a:t>              </a:t>
              </a:r>
              <a:r>
                <a:rPr b="1" lang="zh-CN" sz="3200" spc="-1" strike="noStrike">
                  <a:solidFill>
                    <a:srgbClr val="fc7404"/>
                  </a:solidFill>
                  <a:latin typeface="Arial"/>
                  <a:ea typeface="楷体_GB2312"/>
                </a:rPr>
                <a:t>陈彦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c7404"/>
                  </a:solidFill>
                  <a:latin typeface="Arial"/>
                  <a:ea typeface="楷体_GB2312"/>
                </a:rPr>
                <a:t>              </a:t>
              </a:r>
              <a:r>
                <a:rPr b="1" lang="zh-CN" sz="3200" spc="-1" strike="noStrike">
                  <a:solidFill>
                    <a:srgbClr val="fc7404"/>
                  </a:solidFill>
                  <a:latin typeface="Arial"/>
                  <a:ea typeface="楷体_GB2312"/>
                </a:rPr>
                <a:t>陈沂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01680" y="5335560"/>
              <a:ext cx="149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c7404"/>
                  </a:solidFill>
                  <a:latin typeface="Arial"/>
                  <a:ea typeface="楷体_GB2312"/>
                </a:rPr>
                <a:t>——</a:t>
              </a:r>
              <a:r>
                <a:rPr b="1" lang="zh-CN" sz="3200" spc="-1" strike="noStrike">
                  <a:solidFill>
                    <a:srgbClr val="fc7404"/>
                  </a:solidFill>
                  <a:latin typeface="Arial"/>
                  <a:ea typeface="楷体_GB2312"/>
                </a:rPr>
                <a:t>表演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728720" y="2276640"/>
            <a:ext cx="55800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守株待兔（新）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133" name=""/>
          <p:cNvSpPr/>
          <p:nvPr/>
        </p:nvSpPr>
        <p:spPr>
          <a:xfrm>
            <a:off x="2763720" y="692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隶书"/>
              </a:rPr>
              <a:t>自创小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675600" y="4503600"/>
            <a:ext cx="4502520" cy="1765080"/>
            <a:chOff x="3675600" y="4503600"/>
            <a:chExt cx="4502520" cy="1765080"/>
          </a:xfrm>
        </p:grpSpPr>
        <p:sp>
          <p:nvSpPr>
            <p:cNvPr id="135" name=""/>
            <p:cNvSpPr/>
            <p:nvPr/>
          </p:nvSpPr>
          <p:spPr>
            <a:xfrm>
              <a:off x="3675600" y="495468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表演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30280" y="45036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陈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65040" y="5443560"/>
              <a:ext cx="1278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李艳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85920" y="474660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967280" y="1221120"/>
            <a:ext cx="421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楷体_GB2312"/>
              </a:rPr>
              <a:t>劳动是生产一切力量、一切道德和一切幸福的威力无比的源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32360" y="309528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f11d5"/>
                </a:solidFill>
                <a:latin typeface="Arial"/>
                <a:ea typeface="楷体_GB2312"/>
              </a:rPr>
              <a:t>劳动和科学是世界上最伟大的两种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3640" y="5122080"/>
            <a:ext cx="385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没有顽强的细心的劳动，即使是有才华的人也会变成秀花枕头似的五无用的玩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rcRect l="0" t="5677" r="0" b="3795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rcRect l="0" t="0" r="2361" b="94331"/>
            <a:stretch/>
          </p:blipFill>
          <p:spPr>
            <a:xfrm>
              <a:off x="1619280" y="476280"/>
              <a:ext cx="7056360" cy="40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8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763640" y="907920"/>
            <a:ext cx="525636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cap="rnd" w="936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solidFill>
                  <a:srgbClr val="cc99ff"/>
                </a:solidFill>
                <a:latin typeface="华文行楷"/>
              </a:rPr>
              <a:t>勤俭持家</a:t>
            </a:r>
            <a:endParaRPr b="1" lang="en-US" sz="4800" spc="1" strike="noStrike"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solidFill>
                <a:srgbClr val="cc99ff"/>
              </a:solidFill>
              <a:latin typeface="华文行楷"/>
              <a:ea typeface="华文行楷"/>
            </a:endParaRPr>
          </a:p>
        </p:txBody>
      </p:sp>
      <p:sp>
        <p:nvSpPr>
          <p:cNvPr id="145" name=""/>
          <p:cNvSpPr txBox="1"/>
          <p:nvPr/>
        </p:nvSpPr>
        <p:spPr>
          <a:xfrm rot="5400000">
            <a:off x="-935640" y="3536280"/>
            <a:ext cx="453528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cap="rnd" w="936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幼圆"/>
              </a:rPr>
              <a:t>以辛勤劳动为荣</a:t>
            </a:r>
            <a:endParaRPr b="1" lang="en-US" sz="4800" spc="1" strike="noStrike"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46" name=""/>
          <p:cNvSpPr txBox="1"/>
          <p:nvPr/>
        </p:nvSpPr>
        <p:spPr>
          <a:xfrm rot="5400000">
            <a:off x="4692960" y="3378960"/>
            <a:ext cx="4508640" cy="144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cap="rnd" w="936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幼圆"/>
              </a:rPr>
              <a:t>以好逸恶劳为耻</a:t>
            </a:r>
            <a:endParaRPr b="1" lang="en-US" sz="4800" spc="1" strike="noStrike"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3456000" cy="48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0"/>
            <a:ext cx="9144000" cy="7155000"/>
            <a:chOff x="0" y="0"/>
            <a:chExt cx="9144000" cy="715500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3348000" y="6553080"/>
              <a:ext cx="383868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3868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3203640" y="0"/>
              <a:ext cx="383868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6732720" y="333360"/>
              <a:ext cx="304560" cy="38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5"/>
            <a:stretch/>
          </p:blipFill>
          <p:spPr>
            <a:xfrm>
              <a:off x="6732720" y="3019320"/>
              <a:ext cx="304560" cy="38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6"/>
            <a:stretch/>
          </p:blipFill>
          <p:spPr>
            <a:xfrm>
              <a:off x="0" y="189000"/>
              <a:ext cx="304920" cy="38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7"/>
            <a:stretch/>
          </p:blipFill>
          <p:spPr>
            <a:xfrm>
              <a:off x="0" y="2708280"/>
              <a:ext cx="304920" cy="38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8"/>
            <a:stretch/>
          </p:blipFill>
          <p:spPr>
            <a:xfrm>
              <a:off x="8477280" y="4869000"/>
              <a:ext cx="66672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9"/>
            <a:stretch/>
          </p:blipFill>
          <p:spPr>
            <a:xfrm>
              <a:off x="7451640" y="2997360"/>
              <a:ext cx="952560" cy="95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0"/>
            <a:stretch/>
          </p:blipFill>
          <p:spPr>
            <a:xfrm>
              <a:off x="539640" y="260280"/>
              <a:ext cx="857520" cy="20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1"/>
            <a:stretch/>
          </p:blipFill>
          <p:spPr>
            <a:xfrm>
              <a:off x="250920" y="6553080"/>
              <a:ext cx="38383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12"/>
            <a:stretch/>
          </p:blipFill>
          <p:spPr>
            <a:xfrm>
              <a:off x="8362800" y="0"/>
              <a:ext cx="7812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3"/>
            <a:stretch/>
          </p:blipFill>
          <p:spPr>
            <a:xfrm>
              <a:off x="7164360" y="1844640"/>
              <a:ext cx="77148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4"/>
            <a:stretch/>
          </p:blipFill>
          <p:spPr>
            <a:xfrm>
              <a:off x="7020000" y="0"/>
              <a:ext cx="9810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5"/>
            <a:stretch/>
          </p:blipFill>
          <p:spPr>
            <a:xfrm>
              <a:off x="8388360" y="4292640"/>
              <a:ext cx="4762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16"/>
            <a:stretch/>
          </p:blipFill>
          <p:spPr>
            <a:xfrm>
              <a:off x="7093080" y="4724280"/>
              <a:ext cx="857160" cy="198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 txBox="1"/>
          <p:nvPr/>
        </p:nvSpPr>
        <p:spPr>
          <a:xfrm>
            <a:off x="1116000" y="981000"/>
            <a:ext cx="54864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“</a:t>
            </a: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小李”说事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11640" y="2637000"/>
            <a:ext cx="121932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之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409920" y="4581360"/>
            <a:ext cx="29624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66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团结互助 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100000">
                    <a:srgbClr val="66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96720" y="2806920"/>
            <a:ext cx="1295640" cy="3861720"/>
            <a:chOff x="396720" y="2806920"/>
            <a:chExt cx="1295640" cy="3861720"/>
          </a:xfrm>
        </p:grpSpPr>
        <p:grpSp>
          <p:nvGrpSpPr>
            <p:cNvPr id="169" name=""/>
            <p:cNvGrpSpPr/>
            <p:nvPr/>
          </p:nvGrpSpPr>
          <p:grpSpPr>
            <a:xfrm>
              <a:off x="517320" y="2806920"/>
              <a:ext cx="1057320" cy="3702240"/>
              <a:chOff x="517320" y="2806920"/>
              <a:chExt cx="1057320" cy="3702240"/>
            </a:xfrm>
          </p:grpSpPr>
          <p:sp>
            <p:nvSpPr>
              <p:cNvPr id="170" name=""/>
              <p:cNvSpPr/>
              <p:nvPr/>
            </p:nvSpPr>
            <p:spPr>
              <a:xfrm>
                <a:off x="517320" y="4750560"/>
                <a:ext cx="1057320" cy="175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  <a:ea typeface="华文仿宋"/>
                  </a:rPr>
                  <a:t>李安仪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  <a:ea typeface="华文仿宋"/>
                  </a:rPr>
                  <a:t>姚业敢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1200" y="2806920"/>
                <a:ext cx="667800" cy="252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Arial"/>
                    <a:ea typeface="华文仿宋"/>
                  </a:rPr>
                  <a:t>表 演 者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396720" y="3024360"/>
              <a:ext cx="1295640" cy="364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4364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1672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627280" y="0"/>
            <a:ext cx="651672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4356000" cy="3581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4643280" y="0"/>
            <a:ext cx="388620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3505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4724280"/>
            <a:ext cx="3639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众志成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92720" y="119700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万众一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898800" y="3483000"/>
            <a:ext cx="5245200" cy="337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 rot="20827200">
            <a:off x="-64800" y="1417320"/>
            <a:ext cx="5867640" cy="16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楷体_GB2312"/>
              </a:rPr>
              <a:t>人无信不立</a:t>
            </a:r>
            <a:endParaRPr b="1" lang="en-US" sz="60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楷体_GB2312"/>
              <a:ea typeface="楷体_GB2312"/>
            </a:endParaRPr>
          </a:p>
        </p:txBody>
      </p:sp>
      <p:sp>
        <p:nvSpPr>
          <p:cNvPr id="189" name=""/>
          <p:cNvSpPr/>
          <p:nvPr/>
        </p:nvSpPr>
        <p:spPr>
          <a:xfrm>
            <a:off x="5645160" y="5877000"/>
            <a:ext cx="13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7404"/>
                </a:solidFill>
                <a:latin typeface="Arial"/>
                <a:ea typeface="楷体_GB2312"/>
              </a:rPr>
              <a:t>表演</a:t>
            </a:r>
            <a:r>
              <a:rPr b="1" lang="zh-CN" sz="3600" spc="-1" strike="noStrike">
                <a:solidFill>
                  <a:srgbClr val="fc7404"/>
                </a:solidFill>
                <a:latin typeface="Arial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c7404"/>
                </a:solidFill>
                <a:latin typeface="Arial"/>
                <a:ea typeface="楷体_GB2312"/>
              </a:rPr>
              <a:t>蔡甜、陈永媛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58920" y="0"/>
            <a:ext cx="698508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2000" cy="1125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文件:02.gif  &lt;br&gt;  尺寸:48 × 60  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08200" y="333360"/>
            <a:ext cx="633600" cy="79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 rot="5400000">
            <a:off x="-1629360" y="2647080"/>
            <a:ext cx="6264360" cy="1636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8819"/>
                <a:gd name="adj2" fmla="val 2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方正舒体"/>
              </a:rPr>
              <a:t>老师心语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771640" y="1197000"/>
            <a:ext cx="374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12000" y="6922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484360" y="5373720"/>
            <a:ext cx="476280" cy="538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372360" y="5373720"/>
            <a:ext cx="476280" cy="5364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1042920" y="1341360"/>
            <a:ext cx="536760" cy="647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 rot="1761000">
            <a:off x="1476000" y="1988640"/>
            <a:ext cx="504720" cy="870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 rot="20525400">
            <a:off x="926640" y="2498400"/>
            <a:ext cx="505080" cy="1081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629080" y="1065240"/>
            <a:ext cx="4174920" cy="48038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2700" spc="-1" strike="noStrike">
                <a:solidFill>
                  <a:srgbClr val="0000cc"/>
                </a:solidFill>
                <a:latin typeface="宋体"/>
              </a:rPr>
              <a:t>、升国旗时说话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2700" spc="-1" strike="noStrike">
                <a:solidFill>
                  <a:srgbClr val="0000cc"/>
                </a:solidFill>
                <a:latin typeface="宋体"/>
              </a:rPr>
              <a:t>、上课闲聊甚至睡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宋体"/>
              </a:rPr>
              <a:t>3</a:t>
            </a:r>
            <a:r>
              <a:rPr b="1" lang="zh-CN" sz="2700" spc="-1" strike="noStrike">
                <a:solidFill>
                  <a:srgbClr val="0000cc"/>
                </a:solidFill>
                <a:latin typeface="宋体"/>
              </a:rPr>
              <a:t>、住宿生不按时就寝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宋体"/>
              </a:rPr>
              <a:t>4</a:t>
            </a:r>
            <a:r>
              <a:rPr b="1" lang="zh-CN" sz="2700" spc="-1" strike="noStrike">
                <a:solidFill>
                  <a:srgbClr val="0000cc"/>
                </a:solidFill>
                <a:latin typeface="宋体"/>
              </a:rPr>
              <a:t>、任意践踏草坪</a:t>
            </a:r>
            <a:r>
              <a:rPr b="1" lang="zh-CN" sz="2700" spc="-1" strike="noStrike">
                <a:solidFill>
                  <a:srgbClr val="fc7404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宋体"/>
              </a:rPr>
              <a:t>5</a:t>
            </a:r>
            <a:r>
              <a:rPr b="1" lang="zh-CN" sz="2700" spc="-1" strike="noStrike">
                <a:solidFill>
                  <a:srgbClr val="0000cc"/>
                </a:solidFill>
                <a:latin typeface="宋体"/>
              </a:rPr>
              <a:t>、骑车闯红灯、乱抢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宋体"/>
              </a:rPr>
              <a:t>6</a:t>
            </a:r>
            <a:r>
              <a:rPr b="1" lang="zh-CN" sz="2700" spc="-1" strike="noStrike">
                <a:solidFill>
                  <a:srgbClr val="0000cc"/>
                </a:solidFill>
                <a:latin typeface="宋体"/>
              </a:rPr>
              <a:t>、随手乱扔果皮纸屑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宋体"/>
              </a:rPr>
              <a:t>7</a:t>
            </a:r>
            <a:r>
              <a:rPr b="1" lang="zh-CN" sz="2700" spc="-1" strike="noStrike">
                <a:solidFill>
                  <a:srgbClr val="0000cc"/>
                </a:solidFill>
                <a:latin typeface="宋体"/>
              </a:rPr>
              <a:t>、错把教室当餐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宋体"/>
              </a:rPr>
              <a:t>8</a:t>
            </a:r>
            <a:r>
              <a:rPr b="1" lang="zh-CN" sz="2700" spc="-1" strike="noStrike">
                <a:solidFill>
                  <a:srgbClr val="0000cc"/>
                </a:solidFill>
                <a:latin typeface="宋体"/>
              </a:rPr>
              <a:t>、胡乱消费父母血汗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宋体"/>
              </a:rPr>
              <a:t>9</a:t>
            </a:r>
            <a:r>
              <a:rPr b="1" lang="zh-CN" sz="2700" spc="-1" strike="noStrike">
                <a:solidFill>
                  <a:srgbClr val="0000cc"/>
                </a:solidFill>
                <a:latin typeface="宋体"/>
              </a:rPr>
              <a:t>、考试作弊、抄袭作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cc"/>
                </a:solidFill>
                <a:latin typeface="宋体"/>
              </a:rPr>
              <a:t>    …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9"/>
          <a:stretch/>
        </p:blipFill>
        <p:spPr>
          <a:xfrm>
            <a:off x="1187280" y="36450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0"/>
          <a:stretch/>
        </p:blipFill>
        <p:spPr>
          <a:xfrm>
            <a:off x="971640" y="4437000"/>
            <a:ext cx="64764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rcRect l="-328" t="0" r="0" b="6066"/>
          <a:stretch/>
        </p:blipFill>
        <p:spPr>
          <a:xfrm>
            <a:off x="324000" y="333360"/>
            <a:ext cx="4464000" cy="5977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466400" y="-1713960"/>
            <a:ext cx="1185480" cy="9738000"/>
          </a:xfrm>
          <a:prstGeom prst="rect">
            <a:avLst/>
          </a:prstGeom>
          <a:solidFill>
            <a:srgbClr val="f6f60a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是谁偷走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                 </a:t>
            </a: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我们的良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72800" y="620640"/>
            <a:ext cx="222804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当这两个孩子长大之后，我们该用什么来保证他们所代表的两个阶层和睦相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ransition spd="slow" advTm="10000">
    <p:comb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"/>
                            </p:stCondLst>
                            <p:childTnLst>
                              <p:par>
                                <p:cTn id="1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6069240" cy="4021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92560" y="-1642320"/>
            <a:ext cx="1185480" cy="973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是谁偷走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                 </a:t>
            </a: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我们的良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03640" y="4552920"/>
            <a:ext cx="65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同病相怜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到底是谁在帮助穷人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ransition spd="slow" advTm="10000"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140360" y="476280"/>
            <a:ext cx="467964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ff99"/>
                    </a:gs>
                    <a:gs pos="50000">
                      <a:srgbClr val="00cc00"/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知荣知辱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99"/>
                  </a:gs>
                  <a:gs pos="50000">
                    <a:srgbClr val="00cc00"/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1" name="" descr="文件:20048221018963.gif  &lt;br&gt;  尺寸:100 × 120  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333360"/>
            <a:ext cx="2232000" cy="1727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75120" y="1916280"/>
            <a:ext cx="42890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什么为荣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?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什么为耻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看漫画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识荣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429264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请用“八荣八耻”的内容给以下漫画拟个标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6912000" cy="42163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65320" y="-1642320"/>
            <a:ext cx="1185480" cy="9738000"/>
          </a:xfrm>
          <a:prstGeom prst="rect">
            <a:avLst/>
          </a:prstGeom>
          <a:solidFill>
            <a:srgbClr val="ccff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是谁偷走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                 </a:t>
            </a: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我们的良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5051520"/>
            <a:ext cx="6551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王致中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岁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在贵州以背煤为生。一筐煤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公斤，从煤坑向上爬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米，然後再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00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米山路，挣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元人民币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ransition spd="slow" advTm="13000">
    <p:comb dir="horz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79640" y="289080"/>
            <a:ext cx="6624720" cy="4292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38400" y="-1642320"/>
            <a:ext cx="1185480" cy="973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是谁偷走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                 </a:t>
            </a: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我们的良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92360" y="5294880"/>
            <a:ext cx="734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99"/>
                </a:solidFill>
                <a:latin typeface="Arial"/>
                <a:ea typeface="楷体_GB2312"/>
              </a:rPr>
              <a:t>城管走后</a:t>
            </a:r>
            <a:r>
              <a:rPr b="1" lang="zh-CN" sz="2500" spc="-1" strike="noStrike">
                <a:solidFill>
                  <a:srgbClr val="333399"/>
                </a:solidFill>
                <a:latin typeface="Arial"/>
                <a:ea typeface="楷体_GB2312"/>
              </a:rPr>
              <a:t>,</a:t>
            </a:r>
            <a:r>
              <a:rPr b="1" lang="zh-CN" sz="2500" spc="-1" strike="noStrike">
                <a:solidFill>
                  <a:srgbClr val="333399"/>
                </a:solidFill>
                <a:latin typeface="Arial"/>
                <a:ea typeface="楷体_GB2312"/>
              </a:rPr>
              <a:t>哭泣的卖红薯老人。不是他不要面子，老泪纵横，必是伤心到了绝地。因为，他得吃饭，他是个老人，所以他做不了民工，也没力气去偷抢，他是个男人，所以也当不了妓女，但他也得活呀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ransition spd="slow" advTm="19000"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2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6918480" cy="4932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10040" y="-1642320"/>
            <a:ext cx="1185480" cy="973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是谁偷走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                 </a:t>
            </a: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我们的良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58240" y="5554800"/>
            <a:ext cx="346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7404"/>
                </a:solidFill>
                <a:latin typeface="华文新魏"/>
                <a:ea typeface="华文新魏"/>
              </a:rPr>
              <a:t>有一种眼泪</a:t>
            </a:r>
            <a:r>
              <a:rPr b="1" lang="zh-CN" sz="4000" spc="-1" strike="noStrike">
                <a:solidFill>
                  <a:srgbClr val="fc7404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fc7404"/>
                </a:solidFill>
                <a:latin typeface="华文新魏"/>
                <a:ea typeface="华文新魏"/>
              </a:rPr>
              <a:t>它就叫无奈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124000" y="431640"/>
            <a:ext cx="6500880" cy="4292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1840" y="476280"/>
            <a:ext cx="1688040" cy="561672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是谁偷走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                 </a:t>
            </a: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我们的良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5640" y="536184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冷漠！！经济的发展，不代表社会的进步。富足而没有爱心的世界，是绚丽的地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ransition spd="slow" advTm="13000">
    <p:zoom dir="in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-19440" y="476280"/>
            <a:ext cx="1688040" cy="568944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是谁偷走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                 </a:t>
            </a: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我们的良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50004"/>
          <a:stretch/>
        </p:blipFill>
        <p:spPr>
          <a:xfrm>
            <a:off x="2050920" y="209520"/>
            <a:ext cx="6408720" cy="38671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124000" y="4863600"/>
            <a:ext cx="65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这里，我们的孩子，我们的未来，却只能在这样晴天四面风，雨天八方水的教室里苦苦求学。    而我们呢…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ransition spd="slow" advTm="14000"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6723000" cy="4190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35280" y="4907880"/>
            <a:ext cx="6913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安徽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岁的刘小环为了能上学，每天去给一家窑厂背砖坯，她每次背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6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块，重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公斤，走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40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米，只得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分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厘工钱。我们的孩子吃一次麦当劳花如果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33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元，刘小环要赚这些钱，就要背着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80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斤重的砖坯走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000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趟…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0040" y="-1642320"/>
            <a:ext cx="1185480" cy="973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是谁偷走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                 </a:t>
            </a: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我们的良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ransition spd="slow" advTm="16000">
    <p:checker dir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547640" y="334800"/>
            <a:ext cx="7270920" cy="44625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-308520" y="476280"/>
            <a:ext cx="1688040" cy="5616720"/>
          </a:xfrm>
          <a:prstGeom prst="rect">
            <a:avLst/>
          </a:prstGeom>
          <a:solidFill>
            <a:srgbClr val="f6f60a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是谁偷走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我们的良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19280" y="50846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注意他们脸上的笑容，我们这一代人怎么了？是因为个性还是因为……无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ransition spd="slow" advTm="13000">
    <p:pull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38400" y="-1731960"/>
            <a:ext cx="1185480" cy="1007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是谁偷走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                  </a:t>
            </a: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我们的良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rcRect l="0" t="0" r="0" b="13536"/>
          <a:stretch/>
        </p:blipFill>
        <p:spPr>
          <a:xfrm>
            <a:off x="1835280" y="260280"/>
            <a:ext cx="7111800" cy="4392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979640" y="543708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一幕，生活的你有没有目睹过？你的心灵曾为此震撼过吗？有这样的骗子吗？这样沧桑的一只手伸出来，你就忍心让她空着收回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ransition spd="slow" advTm="17000">
    <p:blinds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38400" y="-1731960"/>
            <a:ext cx="1185480" cy="1007316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是谁偷走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                  </a:t>
            </a: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我们的良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050920" y="260280"/>
            <a:ext cx="6319800" cy="44355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63640" y="54396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一名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岁左右的女孩裸体在贵阳市中华中路北面乞讨，竟无人干预，哪怕是随手丢给她一件衣服。这究竟是谁的羞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ransition spd="slow" advTm="12000">
    <p:randomBar dir="ver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rcRect l="0" t="0" r="0" b="53931"/>
          <a:stretch/>
        </p:blipFill>
        <p:spPr>
          <a:xfrm>
            <a:off x="1835280" y="146160"/>
            <a:ext cx="7019640" cy="4795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38400" y="-1731960"/>
            <a:ext cx="1185480" cy="10073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是谁偷走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                  </a:t>
            </a: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我们的良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66120" y="5445000"/>
            <a:ext cx="449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认真看看这幅图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你会觉得羞愧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12000" y="6922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411280" y="1197000"/>
            <a:ext cx="4465800" cy="4751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75960" y="31752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以崇尚科学为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92560" y="-1731960"/>
            <a:ext cx="1185480" cy="10073160"/>
          </a:xfrm>
          <a:prstGeom prst="rect">
            <a:avLst/>
          </a:prstGeom>
          <a:solidFill>
            <a:srgbClr val="f6f60a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是谁偷走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                  </a:t>
            </a:r>
            <a:r>
              <a:rPr b="1" lang="zh-CN" sz="4400" spc="-1" strike="noStrike">
                <a:solidFill>
                  <a:srgbClr val="fc7404"/>
                </a:solidFill>
                <a:latin typeface="Arial"/>
                <a:ea typeface="楷体_GB2312"/>
              </a:rPr>
              <a:t>我们的良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6480360" cy="4389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268360" y="515484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在江苏南京“全国医药保健品交易会”现场的地面上撒满了被丢弃的宣传材料。你能想到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p:transition spd="slow">
    <p:wheel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532720" y="-747720"/>
            <a:ext cx="6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2600" y="1676520"/>
          <a:ext cx="9131400" cy="302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00" y="1676520"/>
                    <a:ext cx="9131400" cy="30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801800" y="2730600"/>
            <a:ext cx="562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隶书"/>
              </a:rPr>
              <a:t>树立社会主义荣辱观，刻不容缓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隶书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771640" y="1197000"/>
            <a:ext cx="374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75960" y="1773360"/>
            <a:ext cx="911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7404"/>
                </a:solidFill>
                <a:latin typeface="Arial"/>
                <a:ea typeface="隶书"/>
              </a:rPr>
              <a:t>我们宣誓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56000" y="1157400"/>
            <a:ext cx="43923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2900" spc="-1" strike="noStrike">
                <a:solidFill>
                  <a:srgbClr val="333399"/>
                </a:solidFill>
                <a:latin typeface="Arial"/>
                <a:ea typeface="楷体_GB2312"/>
              </a:rPr>
              <a:t>作为时代新青年，我们立志树立正确的社会主义荣辱观，热爱祖国、服务人民、崇尚科学、辛勤劳动、团结互助、诚实守信、遵纪守法、艰苦奋斗、勤奋学习、勇担责任，为祖国腾飞、民族振兴而努力拚搏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12000" y="6922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556000" y="1125360"/>
            <a:ext cx="4103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5960" y="46044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7404"/>
                </a:solidFill>
                <a:latin typeface="Arial"/>
                <a:ea typeface="隶书"/>
              </a:rPr>
              <a:t>向全校师生倡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4360" y="974880"/>
            <a:ext cx="457200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楷体_GB2312"/>
              </a:rPr>
              <a:t>一、爱国爱校爱集体，勇敢肩负起建设国家的历史使命，不做有损于国家、学校和集体利益的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楷体_GB2312"/>
              </a:rPr>
              <a:t>二、服务社会，服务他人，甘于奉献，乐于助人，不计个人得失，在奉献中体现自身价值，反对自私自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楷体_GB2312"/>
              </a:rPr>
              <a:t>三、崇尚科学，刻苦学习，砺练本领，增强能力、提高综合素质，反对愚昧无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900000" y="765000"/>
            <a:ext cx="770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四、勇于攀登，勇于探索，勇于创新，自强自立，反对好逸恶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五、团结同学、尊敬师长，互助进步，教学相长，反对不文明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六、诚实守信，遵纪守法，共建和谐校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七、弘扬艰苦奋斗作风，以勤俭节约为荣、铺张浪费为耻，坚决反对大手大脚、挥霍浪费享乐之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八、营造健康、文明、积极的校园文化，坚决抵制庸俗、低级、堕落的文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555000" y="1197000"/>
            <a:ext cx="199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7404"/>
                </a:solidFill>
                <a:latin typeface="Arial"/>
                <a:ea typeface="楷体_GB2312"/>
              </a:rPr>
              <a:t>全班齐唱</a:t>
            </a:r>
            <a:r>
              <a:rPr b="1" lang="zh-CN" sz="4800" spc="-1" strike="noStrike">
                <a:solidFill>
                  <a:srgbClr val="fc7404"/>
                </a:solidFill>
                <a:latin typeface="Arial"/>
                <a:ea typeface="楷体_GB2312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254240" y="2060640"/>
            <a:ext cx="67024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八荣八耻</a:t>
            </a: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,</a:t>
            </a: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人人须知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87280" y="2575080"/>
            <a:ext cx="7236000" cy="2668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感谢各位莅临指导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Thanks for Coming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835280" y="836640"/>
            <a:ext cx="52578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让我们的梦想飞翔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5508720" y="62064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gif024.gif"/>
          <p:cNvPicPr/>
          <p:nvPr/>
        </p:nvPicPr>
        <p:blipFill>
          <a:blip r:embed="rId5"/>
          <a:stretch/>
        </p:blipFill>
        <p:spPr>
          <a:xfrm>
            <a:off x="7236000" y="2565360"/>
            <a:ext cx="858600" cy="12193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gif024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51640" y="3141720"/>
            <a:ext cx="858960" cy="12193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gif024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116000" y="2276640"/>
            <a:ext cx="858960" cy="1218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gif024.gif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476360" y="2205000"/>
            <a:ext cx="720720" cy="7873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gif024.gif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258920" y="3716280"/>
            <a:ext cx="85896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71640" y="1197000"/>
            <a:ext cx="374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84360" y="1120680"/>
            <a:ext cx="4464000" cy="4972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75960" y="46044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7404"/>
                </a:solidFill>
                <a:latin typeface="Arial"/>
                <a:ea typeface="楷体_GB2312"/>
              </a:rPr>
              <a:t>以愚昧无知为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012000" y="6922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411280" y="1125360"/>
            <a:ext cx="4465800" cy="486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96480" y="56052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以艰苦奋斗为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012000" y="69228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71640" y="1197000"/>
            <a:ext cx="374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11280" y="1225440"/>
            <a:ext cx="4608720" cy="4724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4680" y="46044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以危害祖国为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012000" y="62064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392720" cy="4968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75960" y="291240"/>
            <a:ext cx="911520" cy="62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7404"/>
                </a:solidFill>
                <a:latin typeface="Arial"/>
                <a:ea typeface="楷体_GB2312"/>
              </a:rPr>
              <a:t>以背离人民为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012000" y="62064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771640" y="1197000"/>
            <a:ext cx="374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411280" y="1125360"/>
            <a:ext cx="4465800" cy="4824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75960" y="365760"/>
            <a:ext cx="911520" cy="62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以诚实守信为荣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12000" y="62064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03:27:3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14:43Z</dcterms:modified>
  <cp:revision>213</cp:revision>
  <dc:subject>主题班会课件(分28大类): http://shop62905894.taobao.com</dc:subject>
  <dc:title>主题班会课件(分28大类): http://shop62905894.taobao.com</dc:title>
</cp:coreProperties>
</file>